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C5B8-B870-4B50-B0DD-DE52A6E1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30D-AAF7-4A9C-89D9-BD214A67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40D0-4394-41D1-B831-2F734184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D80-BB0C-49B2-A432-8659623F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22A-817C-49DC-A8EC-A9C8B6C1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8B6-FD66-4E73-9EC0-C88F2922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A74-2AE6-451A-838E-AFE3A4D6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0A3D-D787-43FA-A3A3-21B15431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7E8-1FB4-4B8F-9C27-6F5CF94C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0F3-DB57-4E5A-853A-3DEB51E7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619-0EB3-4FB3-BC99-8B3DCC2E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5E1D-30FC-47FB-B4BC-49C18BD6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2612-F6C7-4C49-B2D4-D98ED9E4BF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7"/>
          <p:cNvSpPr/>
          <p:nvPr/>
        </p:nvSpPr>
        <p:spPr>
          <a:xfrm>
            <a:off x="0" y="5000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5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5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0" descr="Perth &amp; District Tourists.JPG"/>
          <p:cNvPicPr/>
          <p:nvPr/>
        </p:nvPicPr>
        <p:blipFill>
          <a:blip r:embed="rId1"/>
          <a:stretch/>
        </p:blipFill>
        <p:spPr>
          <a:xfrm>
            <a:off x="237960" y="28584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1" descr="Perth Bowlers.JPG"/>
          <p:cNvPicPr/>
          <p:nvPr/>
        </p:nvPicPr>
        <p:blipFill>
          <a:blip r:embed="rId2"/>
          <a:stretch/>
        </p:blipFill>
        <p:spPr>
          <a:xfrm>
            <a:off x="1738440" y="21420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2" descr="Perth Tartan Tour.JPG"/>
          <p:cNvPicPr/>
          <p:nvPr/>
        </p:nvPicPr>
        <p:blipFill>
          <a:blip r:embed="rId3"/>
          <a:stretch/>
        </p:blipFill>
        <p:spPr>
          <a:xfrm>
            <a:off x="3452760" y="35712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3" descr="Perth Ex Presidents.JPG"/>
          <p:cNvPicPr/>
          <p:nvPr/>
        </p:nvPicPr>
        <p:blipFill>
          <a:blip r:embed="rId4"/>
          <a:stretch/>
        </p:blipFill>
        <p:spPr>
          <a:xfrm>
            <a:off x="4952880" y="71280"/>
            <a:ext cx="1390680" cy="130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4" descr="Perth League.JPG"/>
          <p:cNvPicPr/>
          <p:nvPr/>
        </p:nvPicPr>
        <p:blipFill>
          <a:blip r:embed="rId5"/>
          <a:stretch/>
        </p:blipFill>
        <p:spPr>
          <a:xfrm>
            <a:off x="6738840" y="428760"/>
            <a:ext cx="1006560" cy="973080"/>
          </a:xfrm>
          <a:prstGeom prst="rect">
            <a:avLst/>
          </a:prstGeom>
          <a:ln w="0">
            <a:noFill/>
          </a:ln>
        </p:spPr>
      </p:pic>
      <p:sp>
        <p:nvSpPr>
          <p:cNvPr id="49" name="TextBox 35"/>
          <p:cNvSpPr/>
          <p:nvPr/>
        </p:nvSpPr>
        <p:spPr>
          <a:xfrm>
            <a:off x="0" y="1357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RTH  &amp;  DISTRICT TOURISTS  PERTH &amp;  DISTRICT  BOWLERS        PERTH  TARTAN  TOUR                 PERTH  EX  PRESIDENTS          PERTH  &amp;  DISTRICT  LEAG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0-02-02T17:08:45Z</dcterms:modified>
  <cp:revision>35</cp:revision>
  <dc:subject/>
  <dc:title>Slide 1</dc:title>
</cp:coreProperties>
</file>